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6674-C012-439F-B1F2-A16D9B490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00486-4EED-4EC4-AC7D-52358D189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F140-86B6-4AC7-8C1B-82CA82A04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0BE4-94B6-4621-B7B4-460C157A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3426-7A4D-403E-97DC-A7925E48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F35A-AD51-4FAC-8DCC-06A02B5F1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87CA-AA40-4802-8356-52347813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4B7-D780-4E27-9DE5-102A49FE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F862-30EB-4AEB-8867-A1E82CDF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05B8E-C22E-414E-AD49-1838B29F3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4E07-95A8-401D-BEBE-EB0766DD6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E576-7571-4F28-B62F-1885615F9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6D83-C6A1-4DBA-8442-400D3D2A5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1:47Z</dcterms:created>
  <dc:creator>INVES-S6600A</dc:creator>
  <dc:description/>
  <dc:language>en-US</dc:language>
  <cp:lastModifiedBy>INVES-S6600A</cp:lastModifiedBy>
  <dcterms:modified xsi:type="dcterms:W3CDTF">2010-11-23T14:02:04Z</dcterms:modified>
  <cp:revision>1</cp:revision>
  <dc:subject/>
  <dc:title>Diapositiva 1</dc:title>
</cp:coreProperties>
</file>